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777-FFD3-41D2-AE74-C4252C6C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120-DD10-45B6-B773-2422235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BCA-D8FD-4821-9F41-40389A99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AFB-18C2-467E-BD0E-B6D4706A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9B51-DA90-46A5-B14A-02B206C2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A4C-5433-48D3-9068-19921A1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FFC-FBB6-4A19-AB3D-5EA80D1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418C-9E4A-4118-A609-371BBCB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AE8D-7A34-480A-9D28-DA3A0D0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40DF-8CD3-445F-BB95-501BE10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0981-D64C-4FC7-8CE9-A78A362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E4E-E4CD-4EC5-9674-B7F5AC8A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3A5E-C9ED-4F26-BA1D-F0CFA81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9B0-EDEA-454C-ABBD-C5FA5AF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4E85-AD8D-4968-BA4E-B3638E8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FC2-1853-47A8-A60A-E029ECAD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FA5E-64E0-4299-87A7-2349324A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B6F-3608-4D61-8027-D2970E4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808-EE58-4153-97FD-34621618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073-FA2E-4941-904E-CFF807D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08B-7ED7-4651-98EB-123860C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B67-925C-45E8-8200-02B776A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F1D-7609-45FE-BA04-014A9F0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694-8DF7-4294-9DE3-62FB584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834-7BFF-42C9-8030-375B23F124B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F1F0-7079-4355-A995-6C35CE2CCA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tiger.towson.edu/users/kmorri2/censorship2&amp;imgrefurl=http://tiger.towson.edu/users/kmorri2/&amp;h=300&amp;w=400&amp;sz=22&amp;hl=en&amp;start=3&amp;um=1&amp;tbnid=orRY5qIIcekosM:&amp;tbnh=93&amp;tbnw=124&amp;prev=/images%3Fq%3Dcensorship%26um%3D1%26hl%3Den%26rls%3DHPIA,HPIA:2006-02,HPIA:en" TargetMode="External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burning books.jpg"/>
          <p:cNvPicPr/>
          <p:nvPr/>
        </p:nvPicPr>
        <p:blipFill>
          <a:blip r:embed="rId2"/>
          <a:stretch/>
        </p:blipFill>
        <p:spPr>
          <a:xfrm>
            <a:off x="2286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286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4572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858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2"/>
          <a:stretch/>
        </p:blipFill>
        <p:spPr>
          <a:xfrm>
            <a:off x="4572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6858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15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155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15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9:22:49Z</dcterms:created>
  <dc:creator>joseph doster</dc:creator>
  <dc:description/>
  <dc:language>en-US</dc:language>
  <cp:lastModifiedBy>joseph doster</cp:lastModifiedBy>
  <dcterms:modified xsi:type="dcterms:W3CDTF">2008-05-03T19:54:28Z</dcterms:modified>
  <cp:revision>4</cp:revision>
  <dc:subject/>
  <dc:title>Slide 1</dc:title>
</cp:coreProperties>
</file>